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26313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73260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4149360" y="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261800" y="720360"/>
            <a:ext cx="4802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732960" y="4560480"/>
            <a:ext cx="586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12024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4149360" y="9120240"/>
            <a:ext cx="3174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3C98-CB78-427B-8F7E-E15AB9473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6216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2960" y="4560480"/>
            <a:ext cx="58611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and introdu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 teach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 has used a SMARTboard in their classroom  for 3 years or mo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has used a SMARTboard in their classroom  from 1-2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oesn’t have a SMARTboard in their ro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425-3B2D-43EC-8E55-3227CA14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6864-3CCF-40D6-AFAF-9E96607D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4F0-EC61-45C6-ABBE-906BFD76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6A3-559F-4613-86A5-B458A1A8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1DDD-3D0E-4F62-83BE-5289FDF2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6502-599B-404F-8496-E7B32CD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15F7-3B4E-423E-A065-C261A401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4461-A921-4506-9815-7317453A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389E-2644-4115-BB8C-813F9BA3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3520" y="110880"/>
            <a:ext cx="7162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4498-F99F-4739-BCF4-A3BF55A5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3A99-808F-4442-8496-32BCD79D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B63-778E-456A-93BC-45485ACB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880-24B2-4CC3-B9C6-CDFC0A4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ED51-F97F-4FEA-8A8B-16AC3341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6239-8BE4-4551-95A1-C3EA8A32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C2D1-6324-4DE5-A93E-B7B40386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29528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484800"/>
            <a:ext cx="2477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7719-9180-4ADA-A3F3-8387FF4B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DAC-D24A-452F-808C-CE2E0B0B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537-A8E2-41EB-8D13-3DEACC1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599C-1F88-4E6E-BEBB-3C67D0CC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520" y="110880"/>
            <a:ext cx="716256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75DC-7AB2-48E8-9BB2-FCFD9299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10E-2F28-49E6-B9EF-55D0A9B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48480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3D3-61CC-43DA-BD9B-D8DC19BC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295280"/>
            <a:ext cx="37555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84800"/>
            <a:ext cx="7696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413-4796-4BA1-8A25-7CB452C8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5694-0E9F-498C-85A9-E0BDE6E45003}" type="slidenum"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9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2811-8077-4596-8FE2-E3BF421A61A8}" type="slidenum">
              <a:rPr b="0" lang="en-US" sz="1400" spc="-1" strike="noStrike">
                <a:solidFill>
                  <a:srgbClr val="ffff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deal.azed.gov/" TargetMode="External"/><Relationship Id="rId2" Type="http://schemas.openxmlformats.org/officeDocument/2006/relationships/hyperlink" Target="http://www.thinkfinity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ongwood.k12.ny.us/longsmart3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marttech.com/trainingcenter/online/index.asp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603520"/>
            <a:ext cx="9144000" cy="242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reating Interactive Lessons on the SMARTboard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560" y="533412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Carl T. Smith Schoo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SMART Notebook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2895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Power lies in interactivity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Can be used many ways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Graphic organizer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Internet activiti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owerPoint presentation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Peer editing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219060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63" name="smartboard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057920" cy="31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How to Create a Lesson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hink of your objective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How can you get students involved?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Engaging Lesson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2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Goal is to get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them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up to the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 know the materi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reate task for them to do that requires manipulation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ave rest of class help person at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09800" y="1295280"/>
            <a:ext cx="377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ther students take turns at board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Have one student per day designated as “moderator” or “helper”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Teacher on one side of board, student on other sid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Scan in pictures or other resourc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Template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828800"/>
            <a:ext cx="8534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Lots of templates found in Design Gallery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Can find more on the SmartTech site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Websites to Explor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DEAL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ea typeface="Times New Roman"/>
                <a:hlinkClick r:id="rId1"/>
              </a:rPr>
              <a:t>http://www.ideal.azed.gov</a:t>
            </a:r>
            <a:endParaRPr b="0" lang="en-US" sz="28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og in and Find Curriculum Resources on the left side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scovery Education has outstanding resources for students and teacher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Thinkfinity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ea typeface="Times New Roman"/>
                <a:hlinkClick r:id="rId2"/>
              </a:rPr>
              <a:t>http://www.thinkfinity.org/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site is available for students, parents, and   teachers</a:t>
            </a: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Interactive Whiteboard Resources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eacher created lesson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sources and Lesson Plans- Amphi District- Tucson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Resources to Explore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Learn Onlin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SMART online orientation sessions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40-minute computer and telephone conference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No-cost overview of the basics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Led by a SMART trainer</a:t>
            </a: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To register, go to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smarttech.com/training center/online/index.asp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10880"/>
            <a:ext cx="716256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99"/>
                </a:solidFill>
                <a:uFillTx/>
                <a:latin typeface="Comic Sans MS"/>
              </a:rPr>
              <a:t>More to Learn and Explore</a:t>
            </a:r>
            <a:endParaRPr b="0" lang="en-US" sz="40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Visit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Comic Sans MS"/>
              </a:rPr>
              <a:t>Edtech4az wiki</a:t>
            </a: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Comic Sans MS"/>
              </a:rPr>
              <a:t>Resources from this presentation and more</a:t>
            </a: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umm@isaacschools.or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17:41:36Z</dcterms:created>
  <dc:creator>Kathy Wagoner</dc:creator>
  <dc:description/>
  <dc:language>en-US</dc:language>
  <cp:lastModifiedBy>alumm</cp:lastModifiedBy>
  <dcterms:modified xsi:type="dcterms:W3CDTF">2010-03-25T17:48:21Z</dcterms:modified>
  <cp:revision>65</cp:revision>
  <dc:subject/>
  <dc:title>Get Smart</dc:title>
</cp:coreProperties>
</file>